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0D7-962A-4B67-ADFB-DFB6FEF4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50B-D787-4E79-AFC5-1CAAEBA2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AB2-D442-426E-A0F6-0F0A704C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18B-7FB1-47C4-A2D2-9EFE24CC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4EA-6A9D-4F15-BE4C-08773C4E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B23-6B36-42B9-816A-4B67602F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963-54C6-4955-BA34-89E22222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78A-C5A0-4BC6-9849-DA142D31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E98-6B36-4AD5-94DA-07CC725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379-0577-4CB4-ADFD-7EEFEA8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8A4-68BD-4B13-907F-7A1AACF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79F-59DF-4851-BF41-82085F7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0B9-36E5-4565-98BC-D95987016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&lt;15,4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&lt;-5,1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i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,3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4,-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, and w=&lt;1,-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(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u)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0492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14,28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2i-3j and v=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.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i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5486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lt;-1,3&gt;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2,-4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14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u·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4j and v=-3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8i+4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-2i-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arall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2,-3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6,4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t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ions with Dot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9169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le Between Two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752840" cy="733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, Orthogonal, or Nei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4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5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-8i+4j and v=-6i-3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3.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rthog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9810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&lt;2,-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&lt;10,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4,5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2,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, and w=&lt;1,-2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(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v)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14,28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=&lt;4,3&gt; and v=&lt;3,5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22.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 whether the vecto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parallel, orthogonal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nei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=&lt;2,-3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=&lt;6,4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rthog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lt;2,-1&gt;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&lt;1,2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=&lt;-1,3&gt;, v=&lt;2,-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2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l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=&lt;4,4&gt; and v=&lt;-2,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2-26T16:08:54Z</dcterms:modified>
  <cp:revision>8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